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6.jpeg" ContentType="image/jpeg"/>
  <Override PartName="/ppt/media/image26.jpeg" ContentType="image/jpeg"/>
  <Override PartName="/ppt/media/image18.wmf" ContentType="image/x-wmf"/>
  <Override PartName="/ppt/media/image7.gif" ContentType="image/gif"/>
  <Override PartName="/ppt/media/image20.wmf" ContentType="image/x-wmf"/>
  <Override PartName="/ppt/media/image9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2.gif" ContentType="image/gif"/>
  <Override PartName="/ppt/media/image8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1.jpeg" ContentType="image/jpeg"/>
  <Override PartName="/ppt/media/image22.jpeg" ContentType="image/jpeg"/>
  <Override PartName="/ppt/media/image10.wmf" ContentType="image/x-wmf"/>
  <Override PartName="/ppt/media/image14.gif" ContentType="image/gif"/>
  <Override PartName="/ppt/media/image15.jpeg" ContentType="image/jpeg"/>
  <Override PartName="/ppt/media/image16.jpeg" ContentType="image/jpeg"/>
  <Override PartName="/ppt/media/image19.wmf" ContentType="image/x-wmf"/>
  <Override PartName="/ppt/media/image21.jpeg" ContentType="image/jpeg"/>
  <Override PartName="/ppt/media/image23.jpeg" ContentType="image/jpeg"/>
  <Override PartName="/ppt/media/image2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063-CA78-48DB-97DD-AF0207F5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FBC-4814-4C4B-813E-89A3B86C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FBF-615C-4CB4-9C97-F405425C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05E-E2E1-4F92-A7FB-4CA5D9DF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EF9F-9DDA-4C31-9335-736F7E1F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92BE-5D37-4EA0-BA1B-A9E800FC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1F03-EC73-465B-A580-4AD063B3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697D-A822-4B13-AC12-36500792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5FD8-6508-4A50-B907-C4B21F5C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6358-31D6-4C93-872D-F6C6F7DB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FA39-2D55-4434-95AB-6E801A33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BA1-C2C8-4714-B47D-3AA326EC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D00F-D075-4131-8D38-DDD60033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A9D9-F8DA-4B23-BCE1-9AAB6319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3623-A737-41C2-A2C2-9D41A05E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43F9-63C1-4B00-941A-8369E266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8F10-D015-4197-BA6B-4E8D9040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73E-3577-4DBA-8B7B-2B362D2A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BE7-BD2E-4B9F-9C63-74F03762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C6F-D891-4784-B117-B9672385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040-1F41-4B48-9C4F-F4B1E39E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3D9-C59A-4A8A-BBF6-0AEE666F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F1B-729E-4823-9148-B425BD5B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87B-A8D3-41EA-B188-D7B7F546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A885-8FA6-4F5C-A7FD-03D8CA6BEC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7A31-FE13-4068-B53E-775E086E0B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36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df711"/>
                </a:solidFill>
                <a:uFillTx/>
                <a:latin typeface="Arial Black"/>
              </a:rPr>
              <a:t>К чему приводят вредные привычки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743280" cy="298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носитесь 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урению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932360" y="2133720"/>
          <a:ext cx="39276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3927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Алкоголизм. Что это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4076640"/>
            <a:ext cx="800748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коголиз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хроническое (неизлечимое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грессирующее, смертель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болевание, затрагивающе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разрушающее все сферы челове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и - тело, психику, душу и социальн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ь человек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67164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df711"/>
                </a:solidFill>
                <a:uFillTx/>
                <a:latin typeface="Arial Black"/>
              </a:rPr>
              <a:t>Синонимы пьянства, употребляемые в быту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ьян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товой алкоголиз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вычное пьянство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товое пьянство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нняя алкоголизац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20840" y="2104920"/>
            <a:ext cx="2965320" cy="379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Также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5267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фоне алкоголизма тяжелее протекают различные заболевания, особенно хронические (туберкулез, сифилис и др.), инфекционно-аллергические (бронхиальная астма, ревматизм) и сердечно-сосудисты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3273480" cy="2462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df711"/>
                </a:solidFill>
                <a:uFillTx/>
                <a:latin typeface="Arial Black"/>
              </a:rPr>
              <a:t>На употребление алкоголя влияют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5338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ономические услов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ейные обыча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равильное воспит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емление подражать старш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урные приме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томо-физиологические особенности детского и юношеского организ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716200" cy="271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Очень рано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 ранней алкоголизации относится знакомство с опьяняющими дозами алкоголя в возрасте до 16 лет.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df711"/>
                </a:solidFill>
                <a:uFillTx/>
                <a:latin typeface="Arial Black"/>
              </a:rPr>
              <a:t>Социальные предпосылки развития алкоголизм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84692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отребление химических веществ (алкоголь, табак) - традиционно и легально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олная семья, нездоровая атмосфера в семье (даже в полно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ые переезд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исимость в семь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ступность вещест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д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ла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сутствие четких жизненных ориентиров, разорванные поко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т позитивного взрослого - здоровой модели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df711"/>
                </a:solidFill>
                <a:uFillTx/>
                <a:latin typeface="Arial Black"/>
              </a:rPr>
              <a:t>Социальные проявления алкоголизм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руга об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ество отвергает алкоголиков и боится 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интересность и ненужность обществ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ношения "ты мне - я тебе", манипуляции, обман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еря социальных навы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кружающий мир воспринимается враждеб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еря друзей, довер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рушение отношений в семь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еря работы, учеб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оляц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ступ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Духовные последствия алкоголизм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разруш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сли или попытки суицид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еря интереса к жиз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гоцентриз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нев на Бог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еря нравственных ценностей, деградация личност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уничиж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Опьянение – это…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489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, что мы в быту благодушно называем опьянением, в сущности есть не что иное, как острое отравление алкогол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807160" y="2203560"/>
            <a:ext cx="2984400" cy="2085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Какие они бывают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Куре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Алкоголиз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Наркомания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292720" y="184464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Найди в себе мужеств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597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до найти в себе мужество противостоять тем, кто пытается склонить тебя к употреблению спиртного. Избегай вечеринок, собирающихся с целью выпить, и людей, не представляющих себе веселье без выпи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16720" y="1916280"/>
            <a:ext cx="228276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4392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 сколь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т 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вый р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пробов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иртно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917960" y="2276640"/>
          <a:ext cx="392760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отребля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 спир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питк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917960" y="2276640"/>
          <a:ext cx="3927600" cy="28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28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носитесь 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лкоголю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917960" y="2276640"/>
          <a:ext cx="392760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Наркотик – это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775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ркотик – э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юбое химиче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единение, котор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здействует 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ункцио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рганизм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40360" y="2205000"/>
            <a:ext cx="297648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Удовольств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5399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 из главных прич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люди употребля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тики, - э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путствующие прия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щущения, от хорош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чувствия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лаксации 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истической эйфо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2371680" cy="3032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Уход от физического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46560" y="1773360"/>
            <a:ext cx="4897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ьшинству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ается справляться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более стрессов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туациями их жизни, 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которые пыт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йти убежище в фор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тичес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исим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294156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Психоактивные наркоти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280" y="1817280"/>
            <a:ext cx="497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сихоактивные нарко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разделяют на четы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лавные группы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ответствии с 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действие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Депрессант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Стимулятор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Галлюциноге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Мариху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111480" cy="2489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6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Наркотики и здоровье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540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известно, перв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лом нарко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ражается 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оровье. Глав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болев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манов, явля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болезнь гряз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прицов» 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СПИД.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1873080" cy="2776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Кроме того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4005360"/>
            <a:ext cx="822960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ин грамм героина стоит сегодня   300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долларов. А ведь это дневная д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мана. Где он может добыть 9 тыся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ларов в месяц?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2662200" cy="1806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Кур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82803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рение табака - одна из самых распространенных вредных привычек, приводящая иногда к серьезным нарушениям здоровья. Это настоящая наркомания, и тем более опасная, что многие не принимают ее всерье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301140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680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 сколь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вый р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пробов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кот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траву)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076720" y="1916280"/>
          <a:ext cx="3927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16280"/>
                    <a:ext cx="3927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82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отребля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 сейч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траву)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003640" y="1989000"/>
          <a:ext cx="392760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989000"/>
                    <a:ext cx="392760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носитесь 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котика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932360" y="2060640"/>
          <a:ext cx="39276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060640"/>
                    <a:ext cx="39276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Заключ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5472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е употребление наркотиков, а к ним относится и курение, и алкоголь, и сами наркотики быстро разрушает организм. Так как злоупотребляют этими вредными, можно сказать, смертельными веществами, в большей части подростки и люди, не имеющие еще семей, то можно сказать: будущего у них нет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372360" y="2133720"/>
            <a:ext cx="248112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цы 11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У гимназии №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лконян Эмма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умаченко Дар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Воздействие курения на школьник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34999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ражая старшим, молодые люди приобщаются к курению, а со временем и сами становятся источником подражания для друг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рильщики, как правило, не могут сформулировать точно, почему они потянулись к сигарет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7352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Курение в </a:t>
            </a:r>
            <a:br>
              <a:rPr sz="4800"/>
            </a:b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школьные годы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7440" y="1930320"/>
            <a:ext cx="4846680" cy="41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урение и школьник несовместимы. Организму нужно много сил, чтобы справиться со всеми нагрузкам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4144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Раз и навсегд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43240" y="2457360"/>
            <a:ext cx="917640" cy="912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росить курить нужно раз и навсегда! Это единственно разумный путь. Это решение курящего должно поддерживаться окружающим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Если всё же удалось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489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месте с хорошим аппетитом приходит спокойный, глубокий сон, изменяется внешний вид человека, выравнивается настроение, повышается работоспособность. Нормализуются все функции организм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80512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 вопрос №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468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 сколько лет первый раз я попробовал(а) кури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216400" y="1916280"/>
          <a:ext cx="3927600" cy="37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6400" y="1916280"/>
                    <a:ext cx="392760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ури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 вы сейчас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17960" y="2276640"/>
          <a:ext cx="3927600" cy="31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8:34:12Z</dcterms:created>
  <dc:creator/>
  <dc:description/>
  <dc:language>en-US</dc:language>
  <cp:lastModifiedBy>Светлана</cp:lastModifiedBy>
  <dcterms:modified xsi:type="dcterms:W3CDTF">2010-02-25T11:18:38Z</dcterms:modified>
  <cp:revision>23</cp:revision>
  <dc:subject/>
  <dc:title>Вредные привычки</dc:title>
</cp:coreProperties>
</file>